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AF23-1CE5-4D1F-9645-5A78C3D92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C647-C37C-4538-B528-E89B52CC1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AA9B-E3CA-480B-99C7-35453ED8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E04-DC02-4853-9BF0-79B3EF1E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8A3-33C5-4888-A3C4-DD0A6749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E48-05DC-4457-8221-C5D722DE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2823-B94E-4ACE-A0DE-86638178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85E1-E5B0-454A-A727-F2D5DAFB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C004-7817-43B8-BB2E-A1BB48E5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50DC-2052-46AA-95A1-37ADB997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44E4-67F2-4C2D-95C9-43D55B45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4260-31BD-4CD9-8D09-1FD255CF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D820-DB59-4E00-9CC2-954C9151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7E5-B2A5-42CE-BB26-6C06F212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03F6-EE12-47C1-86F3-11181B2A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5FE0-215C-4C85-BD56-B7C79363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69D0-0714-446B-A189-E6A496D3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435E-AB8B-45A0-86D5-2595AF02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F4B9-49FD-4A6D-A689-D63A8282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F63B4-94CB-4540-B09D-E399A5B6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9BD89-60F0-44FA-993C-3C25CAF9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DEA3F-412A-47C6-B595-D4C3E005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5D19C-E60A-4C77-A72C-218D2C0D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97E1C-F8DC-4958-A747-9B431354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EC0-0844-4311-A5BE-74C8055C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388AA-F789-477C-A284-BE4098BE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AF9C8-8EA2-40B4-83F7-3CB16F7B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26F69-5549-42FC-B7FA-E6D7DEDB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B884D-B407-49DB-8CFA-E8ABF935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39892-2434-4799-9D4D-E5B66364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F5821-0096-42C2-B0FB-8D522339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9D3CA-30DE-459A-A842-205C535E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A2F3E-8664-49F4-BB31-DF29659E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C9751-51D6-4BA4-B386-59AF0C4A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DA058-BE5C-4FD6-878C-72EC60D3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054-202F-4F40-9050-DDDC90F3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CCA1A-31AB-4CF3-AEEF-AEDD3B38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B3CA-402E-4B50-B3D7-BBFB661C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8483-83BC-4A36-AABF-F2436BFB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77437-D21E-4E47-81EF-04B75098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51A0B-5010-4078-8B23-D0C54A51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06BDB-574C-4D62-93A6-BCDED69C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ACB4B-D199-4B21-AAC9-23CF8547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789C7-CE78-427F-B5C0-658FE1BE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1F967-4895-42CA-ACF0-8ED0D4E1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070-FEDC-42A5-8F37-392A6055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2A4-AADE-48C1-B667-42A70CCC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2BA-2C5D-4074-AF61-7B17BA27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F0B-7BBB-4487-8AB8-FAD0CDF5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CDC-88C2-44C9-A633-13392124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500A-336A-46B1-85F9-78336C360173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DA6A-BC6D-4D6E-A0A2-8ED31D3BCE0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9C05-101D-4F89-9EA6-D55D6E885E4F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A24B-B21C-42F0-A53B-2DE948BA9500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F281-9C72-4E75-955A-3F640E7B8334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2B4D-9D10-431E-8617-7D64FD6E3C4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DBCE-A1C9-4ACA-B61B-B7DBD234C3F5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ED92-E670-4B3B-A6D3-02C446C6AA1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South Dakota AFNR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Academic Integration Activities: Example #7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6438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484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First, identify what we kno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P = 35 watts, E = 12 volts, we want to find R (ohms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12120" indent="-2484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dentify the equation to work with the information give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R = E</a:t>
            </a:r>
            <a:r>
              <a:rPr b="0" lang="en-US" sz="18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/P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12120" indent="-2484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lug in the informati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R = 12</a:t>
            </a:r>
            <a:r>
              <a:rPr b="0" lang="en-US" sz="18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/35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12120" indent="-2484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Following algebraic order of operation (parenthesis – exponents – multiply – divide – add – subtract), continue the calculati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R = 144/35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12120" indent="-2484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R = 4.1 ohm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The bulb must have a resistance of 4.1 ohms to work properly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920" y="2323800"/>
            <a:ext cx="68817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264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ssume a student is installing a corn planter monitor on a tractor. The tractor has 2 – 6 volt batteries and the monitor has a resistance of 50 ohms. How much power will the monitor need to run properly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284400" indent="-2264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nswer: 2.88 watt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30640" indent="-2264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 = E</a:t>
            </a:r>
            <a:r>
              <a:rPr b="0" lang="en-US" sz="20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/R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30640" indent="-2264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E = 12 volts (the 2 – 6 volt batteries add together for a total of 12 volts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30640" indent="-2264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R = 50 ohm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30640" indent="-2264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 = 12</a:t>
            </a:r>
            <a:r>
              <a:rPr b="0" lang="en-US" sz="20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/50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30640" indent="-2264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 = 144/50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30640" indent="-2264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 = 2.88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a student is replacing one of the monitors on a tractor console. What is the resistance needed in this circuit if it is a 15 watt, 2 amp monitor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nswer: 3.75 ohm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 = P/I</a:t>
            </a:r>
            <a:r>
              <a:rPr b="0" lang="en-US" sz="22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 = 15/2</a:t>
            </a:r>
            <a:r>
              <a:rPr b="0" lang="en-US" sz="22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 = 15/4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 = 3.7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09480" y="190008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Verdana"/>
              </a:rPr>
              <a:t>Ag Power Technology students will add, subtract, multiply and divide real numbers including integral exponents when figuring Ohm’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g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g Power Technology, 3.9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llustrate various electric motor types, operation and maintenanc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alculate problems using Ohm’s la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cademic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9-12.N.2.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tudents are able to add, subtract, multiply and divide real numbers including integral exponen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ackground Informa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920" y="2313000"/>
            <a:ext cx="37576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5668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Ohm’s Law is the foundation of understanding electronics and electricity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22200" indent="-25668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The diagram shows all of the equations and relationships between power (represented by a P, measured in watts), voltage (represented by an E, measured in volts), current (represented by an I, measured in amps) and resistance (represented with an R, measured in ohms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1" name="Content Placeholder 7" descr=""/>
          <p:cNvPicPr/>
          <p:nvPr/>
        </p:nvPicPr>
        <p:blipFill>
          <a:blip r:embed="rId1"/>
          <a:srcRect l="1975" t="16288" r="33878" b="20267"/>
          <a:stretch/>
        </p:blipFill>
        <p:spPr>
          <a:xfrm>
            <a:off x="4863960" y="2209680"/>
            <a:ext cx="3670560" cy="37832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4"/>
          <p:cNvSpPr/>
          <p:nvPr/>
        </p:nvSpPr>
        <p:spPr>
          <a:xfrm>
            <a:off x="4834080" y="616104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3d2d"/>
                </a:solidFill>
                <a:latin typeface="Century Gothic"/>
              </a:rPr>
              <a:t>Image </a:t>
            </a: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from: http://fixitnow.com/wp-content/uploads/2009/03/ohmspie-450x450.gif. R</a:t>
            </a:r>
            <a:r>
              <a:rPr b="0" lang="en-US" sz="800" spc="-1" strike="noStrike">
                <a:solidFill>
                  <a:srgbClr val="3e3d2d"/>
                </a:solidFill>
                <a:latin typeface="Arial"/>
              </a:rPr>
              <a:t>etrieved on </a:t>
            </a: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July </a:t>
            </a:r>
            <a:r>
              <a:rPr b="0" lang="en-US" sz="800" spc="-1" strike="noStrike">
                <a:solidFill>
                  <a:srgbClr val="3e3d2d"/>
                </a:solidFill>
                <a:latin typeface="Century Gothic"/>
              </a:rPr>
              <a:t>27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ackground Informa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ome of the equations used in Ohm’s Law include integral exponen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tegral exponents are written with a base number and an expone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xample: In 4</a:t>
            </a:r>
            <a:r>
              <a:rPr b="0" lang="en-US" sz="22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, 4 is the base and 2 is the exponen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hat 4</a:t>
            </a:r>
            <a:r>
              <a:rPr b="0" lang="en-US" sz="20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actually represents is 4 * 4, which equals 16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 radio in a tractor with a resistance of 30 ohms has a current of 0.1 amps flowing through it. Calculate how much power must be supplied to make it work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920" y="2323800"/>
            <a:ext cx="73389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43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dentify what we kno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69160" indent="-2426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 = 0.1 amps, R = 30 ohms, we want to find P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dentify the equation to us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69160" indent="-2426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 = I</a:t>
            </a:r>
            <a:r>
              <a:rPr b="0" lang="en-US" sz="2000" spc="-1" strike="noStrike" baseline="30000">
                <a:solidFill>
                  <a:srgbClr val="3e3d2d"/>
                </a:solidFill>
                <a:latin typeface="Century Gothic"/>
              </a:rPr>
              <a:t>2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* R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lug I and R into the equation to solve for P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69160" indent="-2426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 = 0.1</a:t>
            </a:r>
            <a:r>
              <a:rPr b="0" lang="en-US" sz="20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amps * 30 ohm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Following algebraic order of operation (parenthesis – exponents – multiply – divide – add – subtract), continue the calculati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 = 0.01 * 30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 = 0.3 watt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a student needs to replace a headlight on a Farmall Super M. When she went to the tractor supply dealership, she was given a 35 watt bulb. She knows the battery in the tractor is 12 volts.  What does the resistance of the bulb need to be for it to work properly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 Matzner</cp:lastModifiedBy>
  <dcterms:modified xsi:type="dcterms:W3CDTF">2011-08-04T17:52:26Z</dcterms:modified>
  <cp:revision>98</cp:revision>
  <dc:subject/>
  <dc:title>South Dakota Ag Education</dc:title>
</cp:coreProperties>
</file>